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64B-9678-489C-8950-7ED361644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95E-A014-4587-B367-D2C80DCD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6BC017-6510-4A63-BF4E-B1A4DC37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7948B-FBCD-41DE-ADC2-44212BE29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6D745-BDA9-4B11-A1D4-601EA854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8F4EA-8F10-4CCF-A8AA-4CC30024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0303A-8A93-4AAF-8EA1-052C1743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C9F23-C0FC-4844-ACD6-2E009CFC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D82F7-5CD7-475F-9DBD-49C15B77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F0521-B20D-41CD-87AF-61C218977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81242-DF3C-415F-AA0C-4032666F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9A704-6525-4A6D-89CE-4F4A3559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5643-FBC5-4228-A223-2C955800B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B706D-4E8D-49A1-ACF8-20B3F76B0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65843-6885-4DEC-B6C5-5C655DC1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0E4528-5E09-4733-B30F-1F9F142F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69786-0E38-436C-A172-90160C62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9163AC-9913-420A-B1AE-349DD5F4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24DD2-83A0-4FA1-B646-A4BF4787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6944E-77AD-4F9D-9EC9-086FF5AB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C92AEA-0575-4E67-B043-E38ECA4B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FF921-5A9B-4BE1-BB4A-AA55EC5C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D4DF3-18E4-43A3-8D0F-06E4994F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927D-8AE8-4CE0-B956-888B48BEF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4C240-8501-4774-BFAE-CCAC65A9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3E3CB-999C-41A0-94A7-144B1FCA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4DF0B-03B1-465C-A558-C9D653CA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F0ACE-753C-4CBC-9956-B53D6C20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D11AC-C1DA-43E1-99D2-7899CF96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F35B58-9C07-4784-82E6-7CB52E07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A4D01-69F7-40B0-AD28-8327AF42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8C3F7-6748-4E46-8819-745BEC98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BFCC5D-46A9-4DE9-BD8F-4A4418B3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6BBB2-A930-46FE-842F-6AB9ADB1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96C4-F332-4CA4-978D-70515D313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25BA6-0BFE-4B67-828C-DFA018C9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DD5FD-F6C0-4798-95FB-19F37BE6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D0B54-8700-44C1-AB55-E4575FAB0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6DF0BF-74E5-4924-B529-18C90EF10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241A6B-1232-4172-A0D2-E841D2FD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2C93D-934F-4AAB-B61A-71AAA373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0AB175-0399-4857-B37B-B56DA330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5863FF-649B-4574-8DCE-F253E8AF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BB3F78-DB90-46DC-8FEE-F450B2DF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FADC3-FFD1-4FF9-AC4E-85093BDC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BF9D-9ED6-451F-B59B-8B4040AE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80E38-CA8A-4AB6-B4F0-5478598D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5ADB7-0691-4476-9492-04094FF4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E64BE5-0C9B-4EFB-B9FC-52A1DCC7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30EEB2-7A64-443E-A715-F30D9342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F620EF-BFC1-4BF9-BF15-F704C12B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98A12F-4808-484C-ABB1-78C98C0D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84A32-8D69-46A8-8036-3856CCA6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EF862-C6C7-4AA4-81A5-435BEF75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CFC4E-B3E1-4F34-A7C1-13AF80C0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EB030-AB9D-4C10-A6D5-F6FAD800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D560-A1AA-4195-89FE-3A4B839B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F9222-821B-4D91-989E-FC71E09D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9A0CB3-5FCD-4A8D-99E4-A1EA36E8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A8C74-A329-4C8A-8BBF-7AAF6E962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0FA86-00B2-4CCF-8B20-FCAA3A23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A627C8-29BB-433A-8AC3-AD0559FF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DF379-4075-4296-B2AB-009FF22D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150C58-A1EF-4E1F-9CF5-91236083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49B9AE-7968-4A72-A729-AC7EEDD7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CAE9C-1E2A-4A7E-BCFE-0DCD4B2B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D6FA91-3047-4F75-87FA-E2C394A4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CD6D-A6E2-4D88-ACC8-38D83987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5EE02-C3D8-497E-9F2D-5BDC07113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D14110-B826-4504-B635-2ACFD23B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66E826-3A0E-4C86-B500-31EBECF9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15DD8-BE61-4383-A082-B5BDBC90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37754-1BC8-4AA7-8FA6-2687F5E0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EDDEB-A15D-4CF8-9BD4-A878F78E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D2A771-981E-43A1-A4A8-9C363769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8F5F9-A012-46C7-8F01-4A717E9A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1193A4-C03E-4E01-9D99-1F15E2552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840010-BC36-4159-AEAF-05E3A9A82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F00D-E813-43DD-BE81-48CCB3AFE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7E9795-5A6D-4697-90FB-B1C92A49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42035C-F6F0-4C9F-BAE6-8FEC61FE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0D071E-07C0-4EE7-8EE7-84A975AD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5A1EA3-6712-4862-9B90-C03E9AF4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0844D6-2538-485A-A158-1B18A26C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E62640-9C24-4BD6-95BC-2A436BB0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9BBCB-99FE-4814-AB59-A764ED0B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30EA24-F075-4A0D-B194-5D7F94B2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EBCACC-0ACA-448D-8A70-A6FE6FFD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11D2C-D0B9-468C-9DA4-0C672862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22F1-E034-49B5-84F8-74A53B7B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5DA2E-68BC-4809-A37D-CAA42712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44B3E7-A3B3-4DF5-8CCB-AD909303E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C56D39-49E5-4ED2-A214-4C628F8F5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9B14F7-7350-4503-AE99-DB2B42CA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D1C8EC-3849-4C48-83A4-A8E67D9B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542668-F523-4968-959D-484B2186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17D46-A37C-4C8C-8975-04697637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FC0648-21F9-4600-954F-D7034451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261B08-7D4A-471E-BDBB-3ADEEDF2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9567CF-0807-4421-B436-85014405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D57D-B1FF-4218-8FA3-C4351438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F3625-5ED1-4DAB-AFF7-DA64241D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AD57A-A012-4111-98DD-2B4853F67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1D7666-8733-4CAE-B10B-A06938F2F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4D73F6-3462-443B-9B68-0CA93C21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819A5-2142-49B4-8524-4A0E030E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A71B08-970A-48BE-A24B-1D7ED17EE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31C682-A0A7-4431-AF59-8A89F233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40EDB9-925E-4CCE-A1CC-14310B5A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E2F7F-A5EF-4CEB-B2A0-5E567A16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BD2857-F9B7-4496-90BC-F48FDA49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7C78-1073-4AEA-8F82-BEACD187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6091-9078-4C68-B7E9-6D0798C9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D880DE-E905-41AB-93D4-D8579034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D803C7-24A9-454A-A116-89D25184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C172F8-759A-46B8-A247-AAF516DF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72E22F-3110-499E-A8FE-D5B20C31B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4FB86F-07F8-4A9A-9DDF-CCDFCC375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839B4D-FC9F-425A-AC35-85BE35B5E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CA6DCD-1E34-4AC2-8EE7-C5677AAE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BC01F3-3684-4DD8-9F0C-6C88F300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8C1410-1280-49DB-9284-9B872CDD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21392-A636-40C8-8107-31DC0351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6A46-DBA3-4D36-9787-790641FA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5964E6-24C4-4652-A672-5C5265A2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7A5B7E-A7F2-464D-9CDC-2D4B2736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464FE4-3552-47F6-BCEB-50F81817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A47C05-81FF-46D7-9B15-6D9C48D8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492590-A72F-4ACF-9201-E5FD5D85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D1CD4-47BD-49C8-BC08-356A40B8C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29A854-423B-45FA-A636-FF27E2956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2C4B25-FC3D-4112-9714-F8FAAFD3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D53793-E93A-453B-B971-E99DD27A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265DE4-8287-43F6-B933-A34103EF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CF56-941C-4C89-9955-38DB41E92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3CA126-9DB2-4E7C-8CA6-16B17603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8487B9-723D-4BFE-A5E8-1A009360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473B33-0703-4BA0-B3A8-CF76703B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D3B75A-485A-4AD2-9620-5F65F3C29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601FDE-6FFC-4436-B0FA-D2DAFEA6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45FDA9-1C53-4458-A24E-610AE634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1C32B5-7EDA-4AF0-9835-10C00BF8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78887F-B410-4A59-934D-4726C57B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6C6DF0-7075-4C54-981C-58181E7D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5C0E51-1733-411C-92EB-3915BD363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0416-78F2-4046-895A-7692DF79B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F8C2B-E14C-40CC-A452-31F5A99B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BC99E4-BA17-42C4-8428-2BEEEA7E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502955-E46D-4E56-A63D-DB9908AC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4CDDB3-0262-4726-B6B0-2CCE0DC4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D474BD-ADCF-4F56-B1B9-7ADCED58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D38579-C0B6-42FD-B95A-06FC66A8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1C4A0F-8179-4A25-9454-1433D325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63C4EC-6042-4973-B9C4-3ADA4D6C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C4B1BB-0027-4BE8-B0D3-B19B5FA8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B04D89-172F-4E16-8A6E-E58C9ACB7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21F3-5AE8-4476-ACA6-7ADC46E7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004CBD-2807-46D4-A912-7AAB61B1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B9B26A-614C-4747-A312-61D95FB1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ABC491-DD2C-415C-9E6B-1D5E7A77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80552A-7229-473E-8CCC-5388BD40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958A2E-D9DA-44B4-91F4-C291F299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0C61FF-A51D-46B3-857C-9EF93893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817E37-7BBF-4B26-BBB1-14F353EC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F287F6-2D13-4868-93CB-FB6B1FC6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7F2F8A-FE3E-4220-AE65-57D2AE61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0A2085-3AE9-45A2-B6E3-917731FD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94190-3832-43F3-B89D-16CA82017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D95F4C-AA19-4D52-8770-FB10B656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87304B-15C4-47EE-8A4F-6A5F32C0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77545F-5D00-4C97-BA15-EB9B023E3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8A19B4-2062-40BE-911E-44FB342E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0E2291-6464-4674-8F7A-AD0A092B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504F78-2398-40D6-B709-8FDF43B0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4E3702-13D8-456C-8DAE-4676023D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F03EBB-49A1-47A5-AB61-C1D36E1C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321C3B-F6F5-495D-88E1-9779EE81B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D3E257-EA09-40D3-AE55-79793D2C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7E341-B8A1-4998-94A5-BFF1CBF5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2B014C-3504-47DE-9F8A-CACDD512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92D010-DAB8-42E5-A373-EC24AAEA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C40C89-2678-49EE-826D-ED493373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131718-F6D4-415B-82F9-9513211B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638AF8-D3EB-4480-9515-E785944BE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0B5ECD-54FA-45D3-A32A-816A2E9B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02C88A-2DFD-4365-A871-8658C5A0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61651B-7B63-42E0-AEB1-F4FF9DC43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8862D0-2E2B-4F42-B3DF-18234334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DEB4E1-BA95-46F0-A2B2-64D4E58E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E4BFC-611E-479F-948B-0E9323EE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822CF8-D9CA-45D7-888C-FDE16931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0A531D-2207-4BE7-990F-0E765DE1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7DC967-E212-42C8-9C79-D0C62C16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0E9840-A5DB-4499-AAB4-E4610C4C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AA22D5-52AC-48F1-8DF4-BDB92D2A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1ECE3F-91DF-4D84-8D20-952B07A3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AF6CEC-08D1-47A7-8ED1-3B3449AA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C06A9-7AB8-4056-8AD4-733A2511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2A353-64B0-42DE-8060-CF4B8C6A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A73-AEEF-403A-B4CC-56294C15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E9906-4DCA-48F6-BA65-45315577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1F4CB-3E6D-47B1-9F50-CD9731F4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AA615-8BF5-40F7-B378-1C5FF0C3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95517-2E84-4E20-AEB8-3C5E1180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28A04-D04A-4ADC-976F-6F2AFE21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72CA2-A080-4AA0-A790-F365A543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D13C4-8393-4EF9-9448-AACF40CA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74D86-AB9F-4A39-BC44-46352F6B8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5E30A-6DBB-4061-8E3A-554E1D11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F4ECD-1A02-4F9E-A5B4-1F6C9E72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3C9-2240-4DF3-B6EE-2C7E4D3F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D206A-BDB0-4E5A-9B70-8412625C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38075-8B84-4B6A-BA7D-A925AC00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3A29D-24F3-4D6F-AF8D-BC0840851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02065-350B-4513-8EE6-E413AE4F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2CB28-874D-4E55-94BB-B3982E61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28C54-D42A-4ED7-8BAC-1FC09C4E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C797E-48A5-4383-90FC-32146B71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4CDFB-B7AE-4D36-ADDC-B3046801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05E0E-2415-45B4-B1AD-DE38D1C5F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4495F-025B-48AB-841E-B032E6AF0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5250-8C24-45CC-9BB1-BCF9BC48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78F1C-CD35-4D92-AACC-E25D657B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2D873-C7E9-4D75-BEDF-065D008E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85D20-7DD8-4AFA-892C-5C7CC32A0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BB14B-77E4-46EE-B6BB-9CA1E600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646CD-128F-4842-BA43-BD65F206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7329D-1135-403D-BF33-03CB391A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D2A37-0DF5-464A-BAC2-F8FCAAD6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25993-73E2-436B-B123-E80DB623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DC6A4-EBDD-4C21-B2CE-CFBB0FDB3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6695C-5E63-4ABD-A32F-EB5FD1B8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7F4-8D9C-45FD-B6AA-2BBC54332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A297C-C451-4248-B9AC-8D1E59C76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7002C-26EB-4444-95C2-6B39DD7D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71EF9-E36F-4C38-B941-18C65912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0A2D4-7769-4B12-99A4-67A49A48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8E1BA-1704-4A29-B0B9-50B6822F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C1260-C1E8-4B88-89E0-B5229EA7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1153F-98F1-4263-93F1-0BCC9D7D3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7B66B-1224-424A-A6AB-9DF99275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05EDC-75F7-4562-B1D5-D61FBF7A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E51FA-DECF-4DD8-B677-F9448046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016C-9AED-4818-91A0-C30E58DB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14AD16-D23B-4F37-AD36-329C1021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5601F-8323-4341-BDB4-F9B9FB65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CE6EB-93DA-4230-884E-7637ADCA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3CB2D4-BD5A-4DC1-AE67-425C68EE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26540-3CB5-4A07-9325-2255716F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B25AD-F1EF-4408-942B-B2FB36CC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408BB-D14F-4B86-9605-0FDBAC8C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17B62-8A4E-4169-ABA9-1F6CE391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81CB1-40EC-4B4E-B3C2-B9882B02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1F13A-EAA6-482F-BF4F-1085614D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9D35-5635-4D58-90A6-BEE574D4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CF971-C879-4D36-A533-9B43C175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ED890-FF6B-45CE-90D2-F7890AC1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E913C-E2AE-4324-9699-175625A9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81617-3EAA-4527-AB16-2119DC7F3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B495E-1CBC-45DE-8A0E-6D436B05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4CECA-B8DE-4C33-A14D-16B3EFC6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4356E-421D-4057-BB69-D1263C2B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27CE8-FC23-4A4C-8E9B-3174F12D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312C9-FCD0-4C0E-82E5-29306408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594C2C-6229-4B36-B70A-A34BC2ED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EED-B250-4E42-92A2-AFB909D6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5B267-85D4-4195-B2B2-143040CB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D0671-D21D-4BDA-93E4-7ACAF3FC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66975-5674-481F-9A20-3122E02E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115DC-0B1F-479D-AED2-568FC8D7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BEE06-72D2-43C6-84C6-5A905993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79834-E90B-42C7-8BA5-AA6593CA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1606D-8226-48CF-82F1-4390DBD8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9A17D-75C3-45A5-AF16-224B65BE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2C0BB-515C-4D3B-BECC-3BC0A551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5E5E5-A74D-4314-A3A1-F1950E58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C840-033F-4ABD-8AC6-A80B7C84AC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BFE6-C195-45C9-BCC8-B701C33057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1F8A-E687-495D-B338-22957C62B9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C913-4909-4C6A-9A67-9D2D492E99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04D5-651C-4DC0-BD03-9D90C41BBC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BC7D-204B-4A27-A5D3-28BD0E0EB7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16D9-DEDD-49A3-B9DA-68508DC1F6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26A6-5054-430A-B78B-0D1A3A463F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8EC2-8094-4D00-8DF3-4C28D3D8B7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121B-27F4-4585-80FB-00BFAE6772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1C80-00DE-491D-9B7A-88D6E3A58C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7B41-CB04-4420-89F0-078751BA63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D308-E4BF-4D40-89E2-25119C833F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073D-57C8-426F-8CA0-7647D8EDE8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B5FD-C827-429E-B1B4-86E0F6F8B7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C651-947A-4AA5-BF36-FD417011CD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6A05-14E7-4EA4-8F0D-3174D99A92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8298-442C-4A08-BCCD-F74C05EA5C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0A99-FE08-4BD7-80B3-A338A2424B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3299-3F35-467D-85FF-EEED0615F1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922F-DECD-48B5-8ED0-5159E63556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45CF-031D-4722-95C8-909A2C0693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2904-DDC2-425D-B23E-E336B31C41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E3BB-0658-4297-A90A-C5642D3C3C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9CE4-0A1F-42E9-B8F0-BFF90A7C4F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B834-506B-4778-AF77-237E69106C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734A-7CF1-4E46-98B1-9A240F7FBE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ADB8-859B-4270-89CD-C85F16255B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C055-3FA9-4483-84BB-1A12C199AD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396CD-9E89-4624-B86B-21F35111CBA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94C2-89D4-4F87-9CAB-B158FE22D9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3351-7327-4457-A698-2262B82621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123E-5E93-4D2A-9F70-49A3364A56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3C23-9E7A-4AE9-A702-E0365BED1AB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12BD-7463-4097-940E-63F29A8CDF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10BE-14B3-4C48-9FC2-386149EAEA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FA51-0F2E-4C41-AED3-EDE9EA7994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6932-7896-4753-909A-7CA3DF8417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493CB-83C0-4504-B284-B2DF7021AD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80DB-D16B-4FD5-B2E5-F56154FEC9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C2A3-21BD-4E95-900C-10CFC5CA65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FFE5-46C7-4341-A1CD-2E48FF02C2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69920" y="3056040"/>
            <a:ext cx="880416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93600" y="934920"/>
            <a:ext cx="8956800" cy="194796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2" descr=""/>
          <p:cNvPicPr/>
          <p:nvPr/>
        </p:nvPicPr>
        <p:blipFill>
          <a:blip r:embed="rId2"/>
          <a:stretch/>
        </p:blipFill>
        <p:spPr>
          <a:xfrm>
            <a:off x="985680" y="3736800"/>
            <a:ext cx="7172640" cy="21528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2959200" y="1413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3132000" y="19749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5580000" y="139860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6"/>
          <a:stretch/>
        </p:blipFill>
        <p:spPr>
          <a:xfrm>
            <a:off x="5810400" y="19749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7"/>
          <a:stretch/>
        </p:blipFill>
        <p:spPr>
          <a:xfrm>
            <a:off x="8229600" y="1413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8"/>
          <a:stretch/>
        </p:blipFill>
        <p:spPr>
          <a:xfrm>
            <a:off x="7942320" y="198900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9"/>
          <a:stretch/>
        </p:blipFill>
        <p:spPr>
          <a:xfrm>
            <a:off x="2916360" y="427824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0"/>
          <a:stretch/>
        </p:blipFill>
        <p:spPr>
          <a:xfrm>
            <a:off x="2916360" y="494172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1"/>
          <a:stretch/>
        </p:blipFill>
        <p:spPr>
          <a:xfrm>
            <a:off x="6300720" y="4292640"/>
            <a:ext cx="122400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2"/>
          <a:stretch/>
        </p:blipFill>
        <p:spPr>
          <a:xfrm>
            <a:off x="6156360" y="4883040"/>
            <a:ext cx="1224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43000" y="1038240"/>
            <a:ext cx="8658000" cy="47815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403280" y="2637000"/>
            <a:ext cx="2376720" cy="316836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2857680" y="1960560"/>
            <a:ext cx="14983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148360" y="2637000"/>
            <a:ext cx="3024000" cy="316836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962760" y="1960560"/>
            <a:ext cx="18572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871560" y="1452600"/>
            <a:ext cx="7400880" cy="39528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258920" y="2276640"/>
            <a:ext cx="6985080" cy="29527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3362400" y="1600200"/>
            <a:ext cx="17859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190440" y="1324080"/>
            <a:ext cx="8763120" cy="4209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900000" y="347184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826920" y="4724280"/>
            <a:ext cx="7777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195120" y="1062000"/>
            <a:ext cx="8753760" cy="473400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5256000" cy="4474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971640" y="3919680"/>
            <a:ext cx="525600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900000" y="4508640"/>
            <a:ext cx="79930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"/>
          <p:cNvPicPr/>
          <p:nvPr/>
        </p:nvPicPr>
        <p:blipFill>
          <a:blip r:embed="rId1"/>
          <a:stretch/>
        </p:blipFill>
        <p:spPr>
          <a:xfrm>
            <a:off x="771480" y="1062000"/>
            <a:ext cx="76010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804960" y="1238400"/>
            <a:ext cx="7534080" cy="438120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1187280" y="1816200"/>
            <a:ext cx="583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1187280" y="2421000"/>
            <a:ext cx="720108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1187280" y="4192560"/>
            <a:ext cx="583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1187280" y="4797360"/>
            <a:ext cx="720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257040" y="955800"/>
            <a:ext cx="8629920" cy="56005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3059280" y="234936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5580000" y="234936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3059280" y="2924280"/>
            <a:ext cx="129672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5580000" y="2924280"/>
            <a:ext cx="1297080" cy="4474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3059280" y="351468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5292720" y="351468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8"/>
          <a:stretch/>
        </p:blipFill>
        <p:spPr>
          <a:xfrm>
            <a:off x="2916360" y="413532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9"/>
          <a:stretch/>
        </p:blipFill>
        <p:spPr>
          <a:xfrm>
            <a:off x="5149800" y="413532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0"/>
          <a:stretch/>
        </p:blipFill>
        <p:spPr>
          <a:xfrm>
            <a:off x="3218040" y="472428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11"/>
          <a:stretch/>
        </p:blipFill>
        <p:spPr>
          <a:xfrm>
            <a:off x="5451480" y="472428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12"/>
          <a:stretch/>
        </p:blipFill>
        <p:spPr>
          <a:xfrm>
            <a:off x="2987640" y="5300640"/>
            <a:ext cx="129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13"/>
          <a:stretch/>
        </p:blipFill>
        <p:spPr>
          <a:xfrm>
            <a:off x="5423040" y="530064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14"/>
          <a:stretch/>
        </p:blipFill>
        <p:spPr>
          <a:xfrm>
            <a:off x="1042920" y="5891040"/>
            <a:ext cx="29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81080" y="1190520"/>
            <a:ext cx="8781840" cy="4476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900000" y="3170160"/>
            <a:ext cx="79930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37:1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